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D67A-9E67-4D63-AF7A-26524E050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DDC6-4820-4469-B859-834BD7364C0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A830-EBCD-4D84-B35F-7EBE1885D10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6C58-BA1F-4040-ADB2-3256F1364A1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2476-460E-41F5-9992-CF6C3B3BA68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82F0-D249-4847-BDCF-CBFCCF24895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9BA1-B666-44F9-83F0-5AE720C352E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DF04-D41C-4325-AA0A-062C459923F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E7E-1AED-46E3-B721-DE88A743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D0B1-46F0-4580-AE3E-D9673AB8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D9E7-027D-43C1-96B0-B66416A6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AE98-55EE-4665-9071-4D8D0085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E9FF-2ED3-43D5-A63D-5320738A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97E9-414F-492A-ABC2-7095F46E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E7BE-B075-43EF-9EF3-A3369AC5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BA1C-777F-4DB4-990F-4917A9B1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E95F-2A06-4289-B7E9-5D915B3D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74B0-FA95-414E-A30A-09ED6C52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9FF0-3BD3-4929-B56E-B88ED1A3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440-B15E-4DBB-8097-6F3E1F6B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6694-3E31-456C-B745-19992BE9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BAC9-00B7-47D1-AC24-A11A01E7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C395-3E5D-4C92-B0B7-9E02C4CE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2601-55E0-4904-8625-EBE5F747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2E5B-50DB-4F10-B2FA-F94BD37A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8E5-925A-441F-932B-BEECE5EB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D75F-6099-4331-BD64-4D5BF47D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2E45-3B19-4AAF-85D1-A099849F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206F-0A77-4379-B182-1B710053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1839-A526-4072-8678-AEA117C6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8F3-1603-4D61-868F-882572EF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5599-7A7D-4D84-B47A-3CE167CB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63E3-C711-4C81-AE8C-1FDEB4A27C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2194-0C0C-441E-AA34-7D3F7FC51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F5DA-0853-4BFE-A28B-FE2C272902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7E63-7C7D-450F-96A4-AFD432590E0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r.wikipedia.org/wiki/Slika:Flag_of_Bosnia_and_Herzegovina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k-map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000000"/>
                </a:solidFill>
                <a:latin typeface="Calibri"/>
              </a:rPr>
              <a:t>Bosnia and Herzegov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4" descr="Zastava Bosne i Hercegov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00160"/>
            <a:ext cx="5572080" cy="31593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B20D-D771-4FEB-9430-EC85DC0B7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EB3C-B43C-44E0-B436-3F2F7A429DF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igures</a:t>
            </a:r>
            <a:br>
              <a:rPr sz="1100"/>
            </a:br>
            <a:br>
              <a:rPr sz="1100"/>
            </a:b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(in mio KM)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Source: Banking Agencies of FBiH and 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14240" y="1714680"/>
          <a:ext cx="7858440" cy="385740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  <a:gridCol w="1285920"/>
                <a:gridCol w="1285560"/>
                <a:gridCol w="1214640"/>
                <a:gridCol w="857160"/>
                <a:gridCol w="714600"/>
              </a:tblGrid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1.12.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6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9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.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2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37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4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capi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75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expendi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 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F Stand-by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nna initiative 6+3 (mother banks to keep exposure with B&amp;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protection legislation –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high expectation from banking sec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able results of first stress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L increased, but still acceptable (2,8% Q2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of income with increased interest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– reduced and more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91D1-5328-4D7A-8800-61A3980D8E8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esent challan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unded in 2004, fully indepe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irst Association on stat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self funded by member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ll registered banks in full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rganized troug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xecutive Secre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9 Commissions for different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OUR MISSION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improve and develope close cooperation among th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member bank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establish partnership with stat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institutions, supervisors and legislator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Public relations and media communic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Edu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ca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o  cooperate with similar institutions in the country and abr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A881-815D-45DE-B937-2D2B6A98D12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Association of Bosnia and Herzegovina</a:t>
            </a:r>
            <a:br>
              <a:rPr sz="25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file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fully dedicated to the spirit of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membership with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support and know-how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information and expertise in legislation, good banking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2D1C-BCCE-4373-BC69-0FA59D2EA99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s for your conf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3EFB-76E8-472F-B843-5CAEE55CA9E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24_05_2006_clip_image002"/>
          <p:cNvPicPr/>
          <p:nvPr/>
        </p:nvPicPr>
        <p:blipFill>
          <a:blip r:embed="rId1"/>
          <a:stretch/>
        </p:blipFill>
        <p:spPr>
          <a:xfrm>
            <a:off x="2928960" y="4214880"/>
            <a:ext cx="29718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70c0"/>
                </a:solidFill>
                <a:latin typeface="Calibri"/>
              </a:rPr>
              <a:t>UBBiH   </a:t>
            </a: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ŽENJE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GA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УДРУЖЕЊЕ БАНАКА БОСНE И ХЕРЦЕГОВИН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ANKS ASSOCIATION OF BOSNIA AND HERZEGOVINA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Branilaca Sarajeva 20/III, 71000 Sarajevo, Bosna i Hercegovina, Tel: (387 33) 714 630, Fax: (387 33) 714 631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www.ubbih.ba</a:t>
            </a:r>
            <a:br>
              <a:rPr sz="2400"/>
            </a:br>
            <a:br>
              <a:rPr sz="2400"/>
            </a:br>
            <a:br>
              <a:rPr sz="1600"/>
            </a:br>
            <a:br>
              <a:rPr sz="16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ECONOMY AND BANKING SECTOR  IN  BOSNIA AND HERZEGOVINA 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r. Dino Osmanbegović, Presid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240" y="5143320"/>
            <a:ext cx="69152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Rectangle 4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B43B-0FD3-4735-B538-78C34DD0FA3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43160" y="5929200"/>
            <a:ext cx="407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.  B&amp;H in bri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Macroeconomic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jor Ris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Banking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 Challeng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C986-BE67-42F2-9EA7-DCF02521520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hr-HR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br>
              <a:rPr sz="29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: 3,8 mio (est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: Saraje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51.197 km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cy (€1 = KM1.955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stat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n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entities+1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2066-6E08-42A5-81C1-3B397BDDC54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ap of Bosnia and Herzegov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928800"/>
            <a:ext cx="5473440" cy="482436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5"/>
          <p:cNvSpPr/>
          <p:nvPr/>
        </p:nvSpPr>
        <p:spPr>
          <a:xfrm>
            <a:off x="3124080" y="6356520"/>
            <a:ext cx="416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Bank of B&amp;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urrency Board Arran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ndatory  Res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ing 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 banking agencies (still separate but coordina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latively conservative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tion for indirect taxation (VAT and custo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ntralized collection with entity level distribu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rporate income, personal) on entity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5373-2F34-4A76-9837-D2345FE3E5F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I  B&amp;H in brief</a:t>
            </a:r>
            <a:br>
              <a:rPr sz="1400"/>
            </a:b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Key  Macroeconomic Data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bs-BA" sz="1200" spc="-1" strike="noStrike">
                <a:solidFill>
                  <a:srgbClr val="000000"/>
                </a:solidFill>
                <a:latin typeface="Calibri"/>
              </a:rPr>
              <a:t>Data Source: Thomson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</a:rPr>
              <a:t>Reut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6000840"/>
            <a:ext cx="4906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928800"/>
          <a:ext cx="8072640" cy="5475240"/>
        </p:xfrm>
        <a:graphic>
          <a:graphicData uri="http://schemas.openxmlformats.org/drawingml/2006/table">
            <a:tbl>
              <a:tblPr/>
              <a:tblGrid>
                <a:gridCol w="2639880"/>
                <a:gridCol w="981360"/>
                <a:gridCol w="981000"/>
                <a:gridCol w="1131840"/>
                <a:gridCol w="1149480"/>
                <a:gridCol w="1189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9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1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minal GDP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 GDP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usehold consumption (real, 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ustrial output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umer prices (avg.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employment rate  (avg,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neral budge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urrent Accoun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 debt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fficial FX reserves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F6D2-19CF-4D9D-BA77-31457538DC8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2357280" y="6492960"/>
            <a:ext cx="41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&amp;H in br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jor Macroeconomic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DP growth-present negative with forecasted very low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dget deficit-still over IMF Stand-by Agrm.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Current Account Deficit-despite of significant reduction of both export and im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portfolio volume-reduced for 2%, compared to 27% growth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FX risk and controlled inflation, due to the Currency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F199-CCBB-4434-8390-9B0DED2F26B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857160"/>
            <a:ext cx="8429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100" spc="-1" strike="noStrike">
                <a:solidFill>
                  <a:srgbClr val="000000"/>
                </a:solidFill>
                <a:latin typeface="Calibri"/>
              </a:rPr>
              <a:t>Source: Central Bank B&amp;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5398-E34C-4AEA-9641-96BDE114A28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5840" y="2000160"/>
          <a:ext cx="8358120" cy="3071880"/>
        </p:xfrm>
        <a:graphic>
          <a:graphicData uri="http://schemas.openxmlformats.org/drawingml/2006/table">
            <a:tbl>
              <a:tblPr/>
              <a:tblGrid>
                <a:gridCol w="2431800"/>
                <a:gridCol w="739800"/>
                <a:gridCol w="741600"/>
                <a:gridCol w="741240"/>
                <a:gridCol w="739800"/>
                <a:gridCol w="741240"/>
                <a:gridCol w="741600"/>
                <a:gridCol w="739800"/>
                <a:gridCol w="741240"/>
              </a:tblGrid>
              <a:tr h="285120">
                <a:tc rowSpan="2"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</a:tr>
              <a:tr h="319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ment fu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sing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rance and reinsurance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credit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Footer Placeholder 5"/>
          <p:cNvSpPr/>
          <p:nvPr/>
        </p:nvSpPr>
        <p:spPr>
          <a:xfrm>
            <a:off x="3000240" y="628668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% of Financial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1 Registered B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deration BiH, 19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ublic of Srpska 10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Banks under Administ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0% foreign ow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75% of total assets with 4 key play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% of GDP penet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evant share of retail loan portfol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capital adequacy ratio (CAR) – over 1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profitabil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2ECE-4D5D-424F-A8A9-F12555123D9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58:07Z</dcterms:created>
  <dc:creator>samir</dc:creator>
  <dc:description/>
  <dc:language>en-US</dc:language>
  <cp:lastModifiedBy>samir</cp:lastModifiedBy>
  <dcterms:modified xsi:type="dcterms:W3CDTF">2009-12-03T13:34:02Z</dcterms:modified>
  <cp:revision>32</cp:revision>
  <dc:subject/>
  <dc:title>Bosnia and Herzegovina </dc:title>
</cp:coreProperties>
</file>